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media/camera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2AC-F2BD-467E-AA37-C77949A9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C75-C022-49B7-B5A7-6BAA4213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826-0DFE-464C-985F-762CADB4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29F-406B-4B07-9124-C895A681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448-1B1E-42F0-BB99-CA1AFE5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2C6-C523-4111-81D0-ECBC001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9D3-980B-4054-907C-8C8B617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DF3-E9EA-4E26-A64B-1C49159B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3F1-0B50-459C-81FA-DA20C31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53A-59F4-42A4-81A3-5998AB0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9A1-8478-4D3E-A23E-439F43C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52A-65C6-42DF-B638-0020BFD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A026-2BEC-48E6-95D1-1177AAB61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矩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89880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矩形的判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24579"/>
          <p:cNvGrpSpPr/>
          <p:nvPr/>
        </p:nvGrpSpPr>
        <p:grpSpPr>
          <a:xfrm>
            <a:off x="6275160" y="2119320"/>
            <a:ext cx="2652480" cy="2860200"/>
            <a:chOff x="6275160" y="2119320"/>
            <a:chExt cx="2652480" cy="2860200"/>
          </a:xfrm>
        </p:grpSpPr>
        <p:grpSp>
          <p:nvGrpSpPr>
            <p:cNvPr id="290" name="组合 24580"/>
            <p:cNvGrpSpPr/>
            <p:nvPr/>
          </p:nvGrpSpPr>
          <p:grpSpPr>
            <a:xfrm>
              <a:off x="6625800" y="2608200"/>
              <a:ext cx="1951920" cy="1930320"/>
              <a:chOff x="6625800" y="2608200"/>
              <a:chExt cx="1951920" cy="1930320"/>
            </a:xfrm>
          </p:grpSpPr>
          <p:sp>
            <p:nvSpPr>
              <p:cNvPr id="291" name="直接连接符 24581"/>
              <p:cNvSpPr/>
              <p:nvPr/>
            </p:nvSpPr>
            <p:spPr>
              <a:xfrm>
                <a:off x="6625800" y="2608200"/>
                <a:ext cx="195192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24582"/>
              <p:cNvSpPr/>
              <p:nvPr/>
            </p:nvSpPr>
            <p:spPr>
              <a:xfrm flipH="1">
                <a:off x="6625800" y="2608200"/>
                <a:ext cx="195192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4583"/>
              <p:cNvSpPr/>
              <p:nvPr/>
            </p:nvSpPr>
            <p:spPr>
              <a:xfrm>
                <a:off x="8327160" y="2858040"/>
                <a:ext cx="0" cy="14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组合 24584"/>
              <p:cNvGrpSpPr/>
              <p:nvPr/>
            </p:nvGrpSpPr>
            <p:grpSpPr>
              <a:xfrm>
                <a:off x="6625800" y="2608200"/>
                <a:ext cx="1951920" cy="1930320"/>
                <a:chOff x="6625800" y="2608200"/>
                <a:chExt cx="1951920" cy="1930320"/>
              </a:xfrm>
            </p:grpSpPr>
            <p:sp>
              <p:nvSpPr>
                <p:cNvPr id="295" name="矩形 24585"/>
                <p:cNvSpPr/>
                <p:nvPr/>
              </p:nvSpPr>
              <p:spPr>
                <a:xfrm>
                  <a:off x="6625800" y="2608200"/>
                  <a:ext cx="1951920" cy="1930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直接连接符 24586"/>
                <p:cNvSpPr/>
                <p:nvPr/>
              </p:nvSpPr>
              <p:spPr>
                <a:xfrm>
                  <a:off x="6876000" y="2858040"/>
                  <a:ext cx="0" cy="143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直接连接符 24587"/>
                <p:cNvSpPr/>
                <p:nvPr/>
              </p:nvSpPr>
              <p:spPr>
                <a:xfrm>
                  <a:off x="6876000" y="2858040"/>
                  <a:ext cx="145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直接连接符 24588"/>
              <p:cNvSpPr/>
              <p:nvPr/>
            </p:nvSpPr>
            <p:spPr>
              <a:xfrm>
                <a:off x="6876000" y="4289760"/>
                <a:ext cx="14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24589"/>
            <p:cNvSpPr/>
            <p:nvPr/>
          </p:nvSpPr>
          <p:spPr>
            <a:xfrm>
              <a:off x="6363000" y="43369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24590"/>
            <p:cNvSpPr/>
            <p:nvPr/>
          </p:nvSpPr>
          <p:spPr>
            <a:xfrm>
              <a:off x="8457840" y="43369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4591"/>
            <p:cNvSpPr/>
            <p:nvPr/>
          </p:nvSpPr>
          <p:spPr>
            <a:xfrm>
              <a:off x="8527320" y="227844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4592"/>
            <p:cNvSpPr/>
            <p:nvPr/>
          </p:nvSpPr>
          <p:spPr>
            <a:xfrm>
              <a:off x="6624000" y="2589840"/>
              <a:ext cx="36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24593"/>
            <p:cNvSpPr/>
            <p:nvPr/>
          </p:nvSpPr>
          <p:spPr>
            <a:xfrm>
              <a:off x="6580440" y="3812040"/>
              <a:ext cx="3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24594"/>
            <p:cNvSpPr/>
            <p:nvPr/>
          </p:nvSpPr>
          <p:spPr>
            <a:xfrm>
              <a:off x="8275680" y="38260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24595"/>
            <p:cNvSpPr/>
            <p:nvPr/>
          </p:nvSpPr>
          <p:spPr>
            <a:xfrm>
              <a:off x="8278920" y="258984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24596"/>
            <p:cNvSpPr/>
            <p:nvPr/>
          </p:nvSpPr>
          <p:spPr>
            <a:xfrm>
              <a:off x="7401600" y="3537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24597"/>
            <p:cNvSpPr/>
            <p:nvPr/>
          </p:nvSpPr>
          <p:spPr>
            <a:xfrm>
              <a:off x="6275160" y="21193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24598"/>
          <p:cNvSpPr/>
          <p:nvPr/>
        </p:nvSpPr>
        <p:spPr>
          <a:xfrm>
            <a:off x="395280" y="552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599"/>
          <p:cNvSpPr/>
          <p:nvPr/>
        </p:nvSpPr>
        <p:spPr>
          <a:xfrm>
            <a:off x="1258920" y="5526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4600"/>
          <p:cNvSpPr/>
          <p:nvPr/>
        </p:nvSpPr>
        <p:spPr>
          <a:xfrm>
            <a:off x="1480320" y="12240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对角线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4601"/>
          <p:cNvSpPr/>
          <p:nvPr/>
        </p:nvSpPr>
        <p:spPr>
          <a:xfrm>
            <a:off x="826920" y="1844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BO=CO=D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对角线互相平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4602"/>
          <p:cNvSpPr/>
          <p:nvPr/>
        </p:nvSpPr>
        <p:spPr>
          <a:xfrm>
            <a:off x="1187280" y="24224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BF=CG=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4603"/>
          <p:cNvSpPr/>
          <p:nvPr/>
        </p:nvSpPr>
        <p:spPr>
          <a:xfrm>
            <a:off x="973080" y="29275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E=OF=OG=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4604"/>
          <p:cNvSpPr/>
          <p:nvPr/>
        </p:nvSpPr>
        <p:spPr>
          <a:xfrm>
            <a:off x="1116000" y="3573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4605"/>
          <p:cNvSpPr/>
          <p:nvPr/>
        </p:nvSpPr>
        <p:spPr>
          <a:xfrm>
            <a:off x="900000" y="4151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+OG=FO+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4606"/>
          <p:cNvSpPr/>
          <p:nvPr/>
        </p:nvSpPr>
        <p:spPr>
          <a:xfrm>
            <a:off x="1393200" y="479736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G=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743"/>
          <p:cNvSpPr/>
          <p:nvPr/>
        </p:nvSpPr>
        <p:spPr>
          <a:xfrm flipH="1">
            <a:off x="3790800" y="4791240"/>
            <a:ext cx="4889520" cy="1697040"/>
          </a:xfrm>
          <a:prstGeom prst="cloudCallout">
            <a:avLst>
              <a:gd name="adj1" fmla="val -32166"/>
              <a:gd name="adj2" fmla="val -606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若变为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中点，你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1"/>
                            </p:stCondLst>
                            <p:childTnLst>
                              <p:par>
                                <p:cTn id="3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1"/>
                            </p:stCondLst>
                            <p:childTnLst>
                              <p:par>
                                <p:cTn id="3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1"/>
                            </p:stCondLst>
                            <p:childTnLst>
                              <p:par>
                                <p:cTn id="3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1"/>
                            </p:stCondLst>
                            <p:childTnLst>
                              <p:par>
                                <p:cTn id="3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1"/>
                            </p:stCondLst>
                            <p:childTnLst>
                              <p:par>
                                <p:cTn id="3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1"/>
                            </p:stCondLst>
                            <p:childTnLst>
                              <p:par>
                                <p:cTn id="3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31"/>
          <p:cNvSpPr/>
          <p:nvPr/>
        </p:nvSpPr>
        <p:spPr>
          <a:xfrm>
            <a:off x="357120" y="642960"/>
            <a:ext cx="1258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409"/>
          <p:cNvSpPr/>
          <p:nvPr/>
        </p:nvSpPr>
        <p:spPr>
          <a:xfrm>
            <a:off x="466560" y="105084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边三角形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= 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这个平行四边形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410"/>
          <p:cNvGrpSpPr/>
          <p:nvPr/>
        </p:nvGrpSpPr>
        <p:grpSpPr>
          <a:xfrm>
            <a:off x="6206760" y="1922400"/>
            <a:ext cx="2254320" cy="1828440"/>
            <a:chOff x="6206760" y="1922400"/>
            <a:chExt cx="2254320" cy="1828440"/>
          </a:xfrm>
        </p:grpSpPr>
        <p:grpSp>
          <p:nvGrpSpPr>
            <p:cNvPr id="322" name="组合 17411"/>
            <p:cNvGrpSpPr/>
            <p:nvPr/>
          </p:nvGrpSpPr>
          <p:grpSpPr>
            <a:xfrm>
              <a:off x="6206760" y="1922400"/>
              <a:ext cx="2254320" cy="1828440"/>
              <a:chOff x="6206760" y="1922400"/>
              <a:chExt cx="2254320" cy="1828440"/>
            </a:xfrm>
          </p:grpSpPr>
          <p:grpSp>
            <p:nvGrpSpPr>
              <p:cNvPr id="323" name="组合 17412"/>
              <p:cNvGrpSpPr/>
              <p:nvPr/>
            </p:nvGrpSpPr>
            <p:grpSpPr>
              <a:xfrm>
                <a:off x="6206760" y="1922400"/>
                <a:ext cx="2254320" cy="1828440"/>
                <a:chOff x="6206760" y="1922400"/>
                <a:chExt cx="2254320" cy="1828440"/>
              </a:xfrm>
            </p:grpSpPr>
            <p:sp>
              <p:nvSpPr>
                <p:cNvPr id="324" name="矩形 17413"/>
                <p:cNvSpPr/>
                <p:nvPr/>
              </p:nvSpPr>
              <p:spPr>
                <a:xfrm>
                  <a:off x="6535440" y="2417760"/>
                  <a:ext cx="1599840" cy="91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文本框 17414"/>
                <p:cNvSpPr/>
                <p:nvPr/>
              </p:nvSpPr>
              <p:spPr>
                <a:xfrm>
                  <a:off x="6206760" y="1930320"/>
                  <a:ext cx="40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文本框 17415"/>
                <p:cNvSpPr/>
                <p:nvPr/>
              </p:nvSpPr>
              <p:spPr>
                <a:xfrm>
                  <a:off x="6231600" y="3108240"/>
                  <a:ext cx="383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文本框 17416"/>
                <p:cNvSpPr/>
                <p:nvPr/>
              </p:nvSpPr>
              <p:spPr>
                <a:xfrm>
                  <a:off x="8055720" y="3108240"/>
                  <a:ext cx="383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文本框 17417"/>
                <p:cNvSpPr/>
                <p:nvPr/>
              </p:nvSpPr>
              <p:spPr>
                <a:xfrm>
                  <a:off x="8060760" y="1922400"/>
                  <a:ext cx="40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直接连接符 17418"/>
              <p:cNvSpPr/>
              <p:nvPr/>
            </p:nvSpPr>
            <p:spPr>
              <a:xfrm flipV="1">
                <a:off x="6535440" y="2436480"/>
                <a:ext cx="159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7419"/>
              <p:cNvSpPr/>
              <p:nvPr/>
            </p:nvSpPr>
            <p:spPr>
              <a:xfrm>
                <a:off x="6535440" y="2436480"/>
                <a:ext cx="159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文本框 17420"/>
            <p:cNvSpPr/>
            <p:nvPr/>
          </p:nvSpPr>
          <p:spPr>
            <a:xfrm>
              <a:off x="7154280" y="236196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7421"/>
          <p:cNvGrpSpPr/>
          <p:nvPr/>
        </p:nvGrpSpPr>
        <p:grpSpPr>
          <a:xfrm>
            <a:off x="442440" y="2127240"/>
            <a:ext cx="6521760" cy="4398480"/>
            <a:chOff x="442440" y="2127240"/>
            <a:chExt cx="6521760" cy="4398480"/>
          </a:xfrm>
        </p:grpSpPr>
        <p:grpSp>
          <p:nvGrpSpPr>
            <p:cNvPr id="333" name="组合 17422"/>
            <p:cNvGrpSpPr/>
            <p:nvPr/>
          </p:nvGrpSpPr>
          <p:grpSpPr>
            <a:xfrm>
              <a:off x="1128240" y="5846400"/>
              <a:ext cx="5502240" cy="679320"/>
              <a:chOff x="1128240" y="5846400"/>
              <a:chExt cx="5502240" cy="679320"/>
            </a:xfrm>
          </p:grpSpPr>
          <p:grpSp>
            <p:nvGrpSpPr>
              <p:cNvPr id="334" name="组合 17423"/>
              <p:cNvGrpSpPr/>
              <p:nvPr/>
            </p:nvGrpSpPr>
            <p:grpSpPr>
              <a:xfrm>
                <a:off x="1458360" y="5846400"/>
                <a:ext cx="932400" cy="642600"/>
                <a:chOff x="1458360" y="5846400"/>
                <a:chExt cx="932400" cy="642600"/>
              </a:xfrm>
            </p:grpSpPr>
            <p:sp>
              <p:nvSpPr>
                <p:cNvPr id="335" name="文本框 17424"/>
                <p:cNvSpPr/>
                <p:nvPr/>
              </p:nvSpPr>
              <p:spPr>
                <a:xfrm>
                  <a:off x="1458360" y="5846400"/>
                  <a:ext cx="34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组合 17425"/>
                <p:cNvGrpSpPr/>
                <p:nvPr/>
              </p:nvGrpSpPr>
              <p:grpSpPr>
                <a:xfrm>
                  <a:off x="1716120" y="6059160"/>
                  <a:ext cx="674640" cy="413640"/>
                  <a:chOff x="1716120" y="6059160"/>
                  <a:chExt cx="674640" cy="413640"/>
                </a:xfrm>
              </p:grpSpPr>
              <p:sp>
                <p:nvSpPr>
                  <p:cNvPr id="337" name="任意多边形 17426"/>
                  <p:cNvSpPr/>
                  <p:nvPr/>
                </p:nvSpPr>
                <p:spPr>
                  <a:xfrm>
                    <a:off x="1739880" y="6273360"/>
                    <a:ext cx="2016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96">
                        <a:moveTo>
                          <a:pt x="0" y="96"/>
                        </a:moveTo>
                        <a:lnTo>
                          <a:pt x="192" y="96"/>
                        </a:lnTo>
                        <a:lnTo>
                          <a:pt x="240" y="0"/>
                        </a:lnTo>
                        <a:lnTo>
                          <a:pt x="48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文本框 17427"/>
                  <p:cNvSpPr/>
                  <p:nvPr/>
                </p:nvSpPr>
                <p:spPr>
                  <a:xfrm>
                    <a:off x="1716120" y="6059160"/>
                    <a:ext cx="674640" cy="41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0000"/>
                        </a:solidFill>
                        <a:latin typeface="Times New Roman"/>
                        <a:ea typeface="黑体"/>
                      </a:rPr>
                      <a:t>ABC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9" name="文本框 17428"/>
              <p:cNvSpPr/>
              <p:nvPr/>
            </p:nvSpPr>
            <p:spPr>
              <a:xfrm>
                <a:off x="1128240" y="5848200"/>
                <a:ext cx="433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∴       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AB·BC = 4×4      =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0" name="对象 174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529160" y="5991120"/>
                <a:ext cx="41904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对象 17430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5880" y="6003720"/>
                <a:ext cx="419040" cy="41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2" name="组合 17431"/>
              <p:cNvGrpSpPr/>
              <p:nvPr/>
            </p:nvGrpSpPr>
            <p:grpSpPr>
              <a:xfrm>
                <a:off x="5796000" y="5883120"/>
                <a:ext cx="834480" cy="642600"/>
                <a:chOff x="5796000" y="5883120"/>
                <a:chExt cx="834480" cy="642600"/>
              </a:xfrm>
            </p:grpSpPr>
            <p:sp>
              <p:nvSpPr>
                <p:cNvPr id="343" name="文本框 17432"/>
                <p:cNvSpPr/>
                <p:nvPr/>
              </p:nvSpPr>
              <p:spPr>
                <a:xfrm>
                  <a:off x="5796000" y="5883120"/>
                  <a:ext cx="834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(cm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文本框 17433"/>
                <p:cNvSpPr/>
                <p:nvPr/>
              </p:nvSpPr>
              <p:spPr>
                <a:xfrm>
                  <a:off x="6240960" y="5938560"/>
                  <a:ext cx="2829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组合 17434"/>
            <p:cNvGrpSpPr/>
            <p:nvPr/>
          </p:nvGrpSpPr>
          <p:grpSpPr>
            <a:xfrm>
              <a:off x="442440" y="2127240"/>
              <a:ext cx="6521760" cy="3938040"/>
              <a:chOff x="442440" y="2127240"/>
              <a:chExt cx="6521760" cy="3938040"/>
            </a:xfrm>
          </p:grpSpPr>
          <p:grpSp>
            <p:nvGrpSpPr>
              <p:cNvPr id="346" name="组合 17435"/>
              <p:cNvGrpSpPr/>
              <p:nvPr/>
            </p:nvGrpSpPr>
            <p:grpSpPr>
              <a:xfrm>
                <a:off x="442440" y="2127240"/>
                <a:ext cx="6521760" cy="3938040"/>
                <a:chOff x="442440" y="2127240"/>
                <a:chExt cx="6521760" cy="3938040"/>
              </a:xfrm>
            </p:grpSpPr>
            <p:sp>
              <p:nvSpPr>
                <p:cNvPr id="347" name="文本框 17436"/>
                <p:cNvSpPr/>
                <p:nvPr/>
              </p:nvSpPr>
              <p:spPr>
                <a:xfrm>
                  <a:off x="442440" y="2127240"/>
                  <a:ext cx="6521760" cy="39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解：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∵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四边形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D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平行四边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 = 2OA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BD = 2O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∵ △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OB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等边三角形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OA = O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 =B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     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D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矩形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∠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=90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在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Rt△ABC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中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∵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 = 4cm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=2AO=8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BC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8" name="对象 174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79280" y="5559120"/>
                  <a:ext cx="247680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49" name="任意多边形 17438"/>
              <p:cNvSpPr/>
              <p:nvPr/>
            </p:nvSpPr>
            <p:spPr>
              <a:xfrm>
                <a:off x="1469880" y="4651200"/>
                <a:ext cx="380880" cy="152280"/>
              </a:xfrm>
              <a:custGeom>
                <a:avLst/>
                <a:gdLst/>
                <a:ahLst/>
                <a:rect l="l" t="t" r="r" b="b"/>
                <a:pathLst>
                  <a:path w="240" h="96">
                    <a:moveTo>
                      <a:pt x="0" y="96"/>
                    </a:moveTo>
                    <a:lnTo>
                      <a:pt x="192" y="96"/>
                    </a:lnTo>
                    <a:lnTo>
                      <a:pt x="240" y="0"/>
                    </a:lnTo>
                    <a:lnTo>
                      <a:pt x="48" y="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506520" y="74808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各句判定矩形的说法是否正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0200" y="1297440"/>
            <a:ext cx="74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98520" y="185940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互相平分且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98520" y="24357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一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469800" y="3529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三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69800" y="40201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四个角都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71600" y="46090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相等，且有一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446040" y="2954880"/>
            <a:ext cx="72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三个角都相等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6867360" y="29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686736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6075000" y="126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7940520" y="4681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75640" y="51404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928200" y="39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92820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85512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69800" y="5171040"/>
            <a:ext cx="75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组对角互补的平行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5"/>
                            </p:stCondLst>
                            <p:childTnLst>
                              <p:par>
                                <p:cTn id="4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97285"/>
          <p:cNvSpPr/>
          <p:nvPr/>
        </p:nvSpPr>
        <p:spPr>
          <a:xfrm>
            <a:off x="684360" y="692280"/>
            <a:ext cx="7920000" cy="55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7301"/>
          <p:cNvGrpSpPr/>
          <p:nvPr/>
        </p:nvGrpSpPr>
        <p:grpSpPr>
          <a:xfrm>
            <a:off x="2702160" y="3043080"/>
            <a:ext cx="3912480" cy="2188440"/>
            <a:chOff x="2702160" y="3043080"/>
            <a:chExt cx="3912480" cy="2188440"/>
          </a:xfrm>
        </p:grpSpPr>
        <p:grpSp>
          <p:nvGrpSpPr>
            <p:cNvPr id="370" name=""/>
            <p:cNvGrpSpPr/>
            <p:nvPr/>
          </p:nvGrpSpPr>
          <p:grpSpPr>
            <a:xfrm>
              <a:off x="3205080" y="3619440"/>
              <a:ext cx="2880000" cy="360"/>
              <a:chOff x="3205080" y="3619440"/>
              <a:chExt cx="2880000" cy="360"/>
            </a:xfrm>
          </p:grpSpPr>
          <p:sp>
            <p:nvSpPr>
              <p:cNvPr id="371" name="直接连接符 97287"/>
              <p:cNvSpPr/>
              <p:nvPr/>
            </p:nvSpPr>
            <p:spPr>
              <a:xfrm>
                <a:off x="3205080" y="3619440"/>
                <a:ext cx="288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3205080" y="3619440"/>
                <a:ext cx="28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205080" y="4771800"/>
              <a:ext cx="2880000" cy="360"/>
              <a:chOff x="3205080" y="4771800"/>
              <a:chExt cx="2880000" cy="360"/>
            </a:xfrm>
          </p:grpSpPr>
          <p:sp>
            <p:nvSpPr>
              <p:cNvPr id="374" name="直接连接符 97288"/>
              <p:cNvSpPr/>
              <p:nvPr/>
            </p:nvSpPr>
            <p:spPr>
              <a:xfrm>
                <a:off x="3205080" y="4771800"/>
                <a:ext cx="288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3205080" y="4771800"/>
                <a:ext cx="28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文本框 97289"/>
            <p:cNvSpPr/>
            <p:nvPr/>
          </p:nvSpPr>
          <p:spPr>
            <a:xfrm>
              <a:off x="5366520" y="397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97290"/>
            <p:cNvSpPr/>
            <p:nvPr/>
          </p:nvSpPr>
          <p:spPr>
            <a:xfrm>
              <a:off x="2764080" y="337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97291"/>
            <p:cNvSpPr/>
            <p:nvPr/>
          </p:nvSpPr>
          <p:spPr>
            <a:xfrm>
              <a:off x="6231240" y="34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7292"/>
            <p:cNvSpPr/>
            <p:nvPr/>
          </p:nvSpPr>
          <p:spPr>
            <a:xfrm>
              <a:off x="2702160" y="4527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97293"/>
            <p:cNvSpPr/>
            <p:nvPr/>
          </p:nvSpPr>
          <p:spPr>
            <a:xfrm>
              <a:off x="6187320" y="451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083120" y="3287520"/>
              <a:ext cx="1224000" cy="1800360"/>
              <a:chOff x="4083120" y="3287520"/>
              <a:chExt cx="1224000" cy="1800360"/>
            </a:xfrm>
          </p:grpSpPr>
          <p:sp>
            <p:nvSpPr>
              <p:cNvPr id="382" name="直接连接符 97294"/>
              <p:cNvSpPr/>
              <p:nvPr/>
            </p:nvSpPr>
            <p:spPr>
              <a:xfrm flipH="1">
                <a:off x="4083120" y="3287520"/>
                <a:ext cx="1224000" cy="180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083120" y="3287520"/>
                <a:ext cx="122400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文本框 97295"/>
            <p:cNvSpPr/>
            <p:nvPr/>
          </p:nvSpPr>
          <p:spPr>
            <a:xfrm>
              <a:off x="3566160" y="47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7296"/>
            <p:cNvSpPr/>
            <p:nvPr/>
          </p:nvSpPr>
          <p:spPr>
            <a:xfrm>
              <a:off x="5294520" y="3043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97297"/>
            <p:cNvSpPr/>
            <p:nvPr/>
          </p:nvSpPr>
          <p:spPr>
            <a:xfrm rot="20039400">
              <a:off x="4068720" y="3835080"/>
              <a:ext cx="122580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7298"/>
            <p:cNvSpPr/>
            <p:nvPr/>
          </p:nvSpPr>
          <p:spPr>
            <a:xfrm>
              <a:off x="4789800" y="318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97299"/>
            <p:cNvSpPr/>
            <p:nvPr/>
          </p:nvSpPr>
          <p:spPr>
            <a:xfrm>
              <a:off x="3638880" y="383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97300"/>
            <p:cNvSpPr/>
            <p:nvPr/>
          </p:nvSpPr>
          <p:spPr>
            <a:xfrm>
              <a:off x="4286520" y="4700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97303"/>
          <p:cNvSpPr/>
          <p:nvPr/>
        </p:nvSpPr>
        <p:spPr>
          <a:xfrm>
            <a:off x="4615560" y="222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本框 27649"/>
          <p:cNvSpPr/>
          <p:nvPr/>
        </p:nvSpPr>
        <p:spPr>
          <a:xfrm>
            <a:off x="538200" y="477720"/>
            <a:ext cx="83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∠1= ∠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时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7651"/>
          <p:cNvGrpSpPr/>
          <p:nvPr/>
        </p:nvGrpSpPr>
        <p:grpSpPr>
          <a:xfrm>
            <a:off x="5460840" y="1380960"/>
            <a:ext cx="3313080" cy="2244600"/>
            <a:chOff x="5460840" y="1380960"/>
            <a:chExt cx="3313080" cy="2244600"/>
          </a:xfrm>
        </p:grpSpPr>
        <p:grpSp>
          <p:nvGrpSpPr>
            <p:cNvPr id="393" name="组合 27652"/>
            <p:cNvGrpSpPr/>
            <p:nvPr/>
          </p:nvGrpSpPr>
          <p:grpSpPr>
            <a:xfrm>
              <a:off x="5460840" y="1380960"/>
              <a:ext cx="3313080" cy="2244600"/>
              <a:chOff x="5460840" y="1380960"/>
              <a:chExt cx="3313080" cy="2244600"/>
            </a:xfrm>
          </p:grpSpPr>
          <p:sp>
            <p:nvSpPr>
              <p:cNvPr id="394" name="矩形 27653"/>
              <p:cNvSpPr/>
              <p:nvPr/>
            </p:nvSpPr>
            <p:spPr>
              <a:xfrm>
                <a:off x="5868360" y="1809720"/>
                <a:ext cx="2599920" cy="1347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组合 27654"/>
              <p:cNvGrpSpPr/>
              <p:nvPr/>
            </p:nvGrpSpPr>
            <p:grpSpPr>
              <a:xfrm>
                <a:off x="5460840" y="1380960"/>
                <a:ext cx="3313080" cy="2244600"/>
                <a:chOff x="5460840" y="1380960"/>
                <a:chExt cx="3313080" cy="2244600"/>
              </a:xfrm>
            </p:grpSpPr>
            <p:sp>
              <p:nvSpPr>
                <p:cNvPr id="396" name="直接连接符 27655"/>
                <p:cNvSpPr/>
                <p:nvPr/>
              </p:nvSpPr>
              <p:spPr>
                <a:xfrm>
                  <a:off x="5868360" y="1809720"/>
                  <a:ext cx="2592360" cy="13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组合 27656"/>
                <p:cNvGrpSpPr/>
                <p:nvPr/>
              </p:nvGrpSpPr>
              <p:grpSpPr>
                <a:xfrm>
                  <a:off x="5460840" y="1380960"/>
                  <a:ext cx="3313080" cy="2244600"/>
                  <a:chOff x="5460840" y="1380960"/>
                  <a:chExt cx="3313080" cy="2244600"/>
                </a:xfrm>
              </p:grpSpPr>
              <p:sp>
                <p:nvSpPr>
                  <p:cNvPr id="398" name="文本框 27657"/>
                  <p:cNvSpPr/>
                  <p:nvPr/>
                </p:nvSpPr>
                <p:spPr>
                  <a:xfrm>
                    <a:off x="5511600" y="1503360"/>
                    <a:ext cx="3056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文本框 27658"/>
                  <p:cNvSpPr/>
                  <p:nvPr/>
                </p:nvSpPr>
                <p:spPr>
                  <a:xfrm>
                    <a:off x="5460840" y="2746800"/>
                    <a:ext cx="30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文本框 27659"/>
                  <p:cNvSpPr/>
                  <p:nvPr/>
                </p:nvSpPr>
                <p:spPr>
                  <a:xfrm>
                    <a:off x="8367480" y="2982960"/>
                    <a:ext cx="252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文本框 27660"/>
                  <p:cNvSpPr/>
                  <p:nvPr/>
                </p:nvSpPr>
                <p:spPr>
                  <a:xfrm>
                    <a:off x="8470440" y="1380960"/>
                    <a:ext cx="30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27661"/>
                  <p:cNvSpPr/>
                  <p:nvPr/>
                </p:nvSpPr>
                <p:spPr>
                  <a:xfrm flipV="1">
                    <a:off x="5868360" y="1809720"/>
                    <a:ext cx="2599920" cy="134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3" name="任意多边形 27662"/>
              <p:cNvSpPr/>
              <p:nvPr/>
            </p:nvSpPr>
            <p:spPr>
              <a:xfrm flipV="1">
                <a:off x="5868360" y="1883880"/>
                <a:ext cx="152640" cy="122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任意多边形 27663"/>
              <p:cNvSpPr/>
              <p:nvPr/>
            </p:nvSpPr>
            <p:spPr>
              <a:xfrm>
                <a:off x="5881320" y="301248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文本框 27664"/>
            <p:cNvSpPr/>
            <p:nvPr/>
          </p:nvSpPr>
          <p:spPr>
            <a:xfrm>
              <a:off x="6990840" y="1917000"/>
              <a:ext cx="35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文本框 27665"/>
          <p:cNvSpPr/>
          <p:nvPr/>
        </p:nvSpPr>
        <p:spPr>
          <a:xfrm>
            <a:off x="5878440" y="1701720"/>
            <a:ext cx="2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666"/>
          <p:cNvSpPr/>
          <p:nvPr/>
        </p:nvSpPr>
        <p:spPr>
          <a:xfrm>
            <a:off x="5881680" y="2484360"/>
            <a:ext cx="2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平行四边形 27668"/>
          <p:cNvSpPr/>
          <p:nvPr/>
        </p:nvSpPr>
        <p:spPr>
          <a:xfrm>
            <a:off x="1525680" y="733320"/>
            <a:ext cx="426960" cy="217440"/>
          </a:xfrm>
          <a:prstGeom prst="parallelogram">
            <a:avLst>
              <a:gd name="adj" fmla="val 74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7670"/>
          <p:cNvSpPr/>
          <p:nvPr/>
        </p:nvSpPr>
        <p:spPr>
          <a:xfrm>
            <a:off x="549360" y="1809720"/>
            <a:ext cx="494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,DO=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22529"/>
          <p:cNvSpPr/>
          <p:nvPr/>
        </p:nvSpPr>
        <p:spPr>
          <a:xfrm>
            <a:off x="533520" y="431640"/>
            <a:ext cx="785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△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一动点，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作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//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外角平分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说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O=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到何处时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？并说明你的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2530"/>
          <p:cNvSpPr/>
          <p:nvPr/>
        </p:nvSpPr>
        <p:spPr>
          <a:xfrm>
            <a:off x="4327560" y="601992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2531"/>
          <p:cNvSpPr/>
          <p:nvPr/>
        </p:nvSpPr>
        <p:spPr>
          <a:xfrm flipV="1">
            <a:off x="4327560" y="4114800"/>
            <a:ext cx="137160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2532"/>
          <p:cNvSpPr/>
          <p:nvPr/>
        </p:nvSpPr>
        <p:spPr>
          <a:xfrm>
            <a:off x="5699160" y="4114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2533"/>
          <p:cNvSpPr/>
          <p:nvPr/>
        </p:nvSpPr>
        <p:spPr>
          <a:xfrm flipH="1">
            <a:off x="6308640" y="5029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22534"/>
          <p:cNvSpPr/>
          <p:nvPr/>
        </p:nvSpPr>
        <p:spPr>
          <a:xfrm flipH="1" flipV="1">
            <a:off x="516528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22535"/>
          <p:cNvSpPr/>
          <p:nvPr/>
        </p:nvSpPr>
        <p:spPr>
          <a:xfrm flipV="1">
            <a:off x="516564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2536"/>
          <p:cNvSpPr/>
          <p:nvPr/>
        </p:nvSpPr>
        <p:spPr>
          <a:xfrm>
            <a:off x="5699160" y="4114800"/>
            <a:ext cx="60948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22537"/>
          <p:cNvSpPr/>
          <p:nvPr/>
        </p:nvSpPr>
        <p:spPr>
          <a:xfrm>
            <a:off x="4332240" y="5029200"/>
            <a:ext cx="3087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2538"/>
          <p:cNvSpPr/>
          <p:nvPr/>
        </p:nvSpPr>
        <p:spPr>
          <a:xfrm>
            <a:off x="4141800" y="4637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2539"/>
          <p:cNvSpPr/>
          <p:nvPr/>
        </p:nvSpPr>
        <p:spPr>
          <a:xfrm>
            <a:off x="7167600" y="465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540"/>
          <p:cNvSpPr/>
          <p:nvPr/>
        </p:nvSpPr>
        <p:spPr>
          <a:xfrm>
            <a:off x="4084920" y="5954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2541"/>
          <p:cNvSpPr/>
          <p:nvPr/>
        </p:nvSpPr>
        <p:spPr>
          <a:xfrm>
            <a:off x="6149520" y="6031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22542"/>
          <p:cNvSpPr/>
          <p:nvPr/>
        </p:nvSpPr>
        <p:spPr>
          <a:xfrm>
            <a:off x="6966000" y="5954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2543"/>
          <p:cNvSpPr/>
          <p:nvPr/>
        </p:nvSpPr>
        <p:spPr>
          <a:xfrm>
            <a:off x="4930200" y="5040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2544"/>
          <p:cNvSpPr/>
          <p:nvPr/>
        </p:nvSpPr>
        <p:spPr>
          <a:xfrm>
            <a:off x="5726160" y="4964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22545"/>
          <p:cNvSpPr/>
          <p:nvPr/>
        </p:nvSpPr>
        <p:spPr>
          <a:xfrm>
            <a:off x="6758640" y="496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2546"/>
          <p:cNvSpPr/>
          <p:nvPr/>
        </p:nvSpPr>
        <p:spPr>
          <a:xfrm>
            <a:off x="5449320" y="3745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35843"/>
          <p:cNvSpPr/>
          <p:nvPr/>
        </p:nvSpPr>
        <p:spPr>
          <a:xfrm>
            <a:off x="957960" y="991080"/>
            <a:ext cx="4812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N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EC=∠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FC=∠G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=∠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F=∠G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=∠O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F=∠O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35846" descr="c1cae7fb"/>
          <p:cNvPicPr/>
          <p:nvPr/>
        </p:nvPicPr>
        <p:blipFill>
          <a:blip r:embed="rId1"/>
          <a:stretch/>
        </p:blipFill>
        <p:spPr>
          <a:xfrm>
            <a:off x="5865840" y="1413000"/>
            <a:ext cx="2663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36867"/>
          <p:cNvSpPr/>
          <p:nvPr/>
        </p:nvSpPr>
        <p:spPr>
          <a:xfrm>
            <a:off x="631800" y="626040"/>
            <a:ext cx="770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=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+CO=EO+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35846" descr="c1cae7fb"/>
          <p:cNvPicPr/>
          <p:nvPr/>
        </p:nvPicPr>
        <p:blipFill>
          <a:blip r:embed="rId1"/>
          <a:stretch/>
        </p:blipFill>
        <p:spPr>
          <a:xfrm>
            <a:off x="5153040" y="2440080"/>
            <a:ext cx="2663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6"/>
          <p:cNvSpPr/>
          <p:nvPr/>
        </p:nvSpPr>
        <p:spPr>
          <a:xfrm>
            <a:off x="2122560" y="1628640"/>
            <a:ext cx="73080" cy="3095640"/>
          </a:xfrm>
          <a:custGeom>
            <a:avLst/>
            <a:gdLst>
              <a:gd name="textAreaLeft" fmla="*/ 46800 w 73080"/>
              <a:gd name="textAreaRight" fmla="*/ 73440 w 73080"/>
              <a:gd name="textAreaTop" fmla="*/ 119880 h 3095640"/>
              <a:gd name="textAreaBottom" fmla="*/ 2975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7"/>
                  <a:pt x="10800" y="2674"/>
                </a:cubicBezTo>
                <a:lnTo>
                  <a:pt x="10800" y="8126"/>
                </a:lnTo>
                <a:cubicBezTo>
                  <a:pt x="10800" y="9463"/>
                  <a:pt x="5400" y="10800"/>
                  <a:pt x="0" y="10800"/>
                </a:cubicBezTo>
                <a:cubicBezTo>
                  <a:pt x="5400" y="10800"/>
                  <a:pt x="10800" y="12137"/>
                  <a:pt x="10800" y="13474"/>
                </a:cubicBezTo>
                <a:lnTo>
                  <a:pt x="10800" y="18926"/>
                </a:lnTo>
                <a:cubicBezTo>
                  <a:pt x="10800" y="2026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1"/>
          <p:cNvSpPr/>
          <p:nvPr/>
        </p:nvSpPr>
        <p:spPr>
          <a:xfrm>
            <a:off x="3274920" y="1428840"/>
            <a:ext cx="54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角是直角的平行四边形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1"/>
          <p:cNvSpPr/>
          <p:nvPr/>
        </p:nvSpPr>
        <p:spPr>
          <a:xfrm>
            <a:off x="3203640" y="3483000"/>
            <a:ext cx="5715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角线相等的平行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1"/>
          <p:cNvSpPr/>
          <p:nvPr/>
        </p:nvSpPr>
        <p:spPr>
          <a:xfrm>
            <a:off x="3203640" y="278280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有三个角是直角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1"/>
          <p:cNvSpPr/>
          <p:nvPr/>
        </p:nvSpPr>
        <p:spPr>
          <a:xfrm>
            <a:off x="2411280" y="4437000"/>
            <a:ext cx="3714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用定理进行计算和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51"/>
          <p:cNvSpPr/>
          <p:nvPr/>
        </p:nvSpPr>
        <p:spPr>
          <a:xfrm>
            <a:off x="250920" y="3052800"/>
            <a:ext cx="172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矩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1"/>
          <p:cNvSpPr/>
          <p:nvPr/>
        </p:nvSpPr>
        <p:spPr>
          <a:xfrm>
            <a:off x="1933560" y="144468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1"/>
          <p:cNvSpPr/>
          <p:nvPr/>
        </p:nvSpPr>
        <p:spPr>
          <a:xfrm>
            <a:off x="1979640" y="3141720"/>
            <a:ext cx="122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52"/>
          <p:cNvSpPr/>
          <p:nvPr/>
        </p:nvSpPr>
        <p:spPr>
          <a:xfrm>
            <a:off x="2884320" y="1560600"/>
            <a:ext cx="358920" cy="287280"/>
          </a:xfrm>
          <a:prstGeom prst="rightArrow">
            <a:avLst>
              <a:gd name="adj1" fmla="val 50000"/>
              <a:gd name="adj2" fmla="val 312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56"/>
          <p:cNvSpPr/>
          <p:nvPr/>
        </p:nvSpPr>
        <p:spPr>
          <a:xfrm>
            <a:off x="2987640" y="299736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165240" y="200124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理解并掌握矩形的判定方法．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能应用矩形判定解决简单的证明题和计算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难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u=295594453,328344094&amp;fm=0&amp;gp=44"/>
          <p:cNvPicPr/>
          <p:nvPr/>
        </p:nvPicPr>
        <p:blipFill>
          <a:blip r:embed="rId1"/>
          <a:stretch/>
        </p:blipFill>
        <p:spPr>
          <a:xfrm>
            <a:off x="4572000" y="1266840"/>
            <a:ext cx="3995640" cy="3171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12720" y="1197000"/>
            <a:ext cx="38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假如你是做窗框的师傅，你有什么方法检验你做的这个窗框是矩形？（直角尺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88960" y="371628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89080" y="44355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有一个角是直角的平行四边形是矩形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635280" y="530064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还有其它的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108000" y="5180040"/>
            <a:ext cx="3200400" cy="1325520"/>
            <a:chOff x="108000" y="5180040"/>
            <a:chExt cx="3200400" cy="1325520"/>
          </a:xfrm>
        </p:grpSpPr>
        <p:sp>
          <p:nvSpPr>
            <p:cNvPr id="85" name="Text Box 8"/>
            <p:cNvSpPr/>
            <p:nvPr/>
          </p:nvSpPr>
          <p:spPr>
            <a:xfrm>
              <a:off x="1936800" y="5865840"/>
              <a:ext cx="914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412560" y="5392800"/>
              <a:ext cx="2667240" cy="4572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0"/>
            <p:cNvGrpSpPr/>
            <p:nvPr/>
          </p:nvGrpSpPr>
          <p:grpSpPr>
            <a:xfrm>
              <a:off x="108000" y="5180040"/>
              <a:ext cx="1371600" cy="746280"/>
              <a:chOff x="108000" y="5180040"/>
              <a:chExt cx="1371600" cy="746280"/>
            </a:xfrm>
          </p:grpSpPr>
          <p:sp>
            <p:nvSpPr>
              <p:cNvPr id="88" name="Freeform 11"/>
              <p:cNvSpPr/>
              <p:nvPr/>
            </p:nvSpPr>
            <p:spPr>
              <a:xfrm>
                <a:off x="793800" y="5180040"/>
                <a:ext cx="685800" cy="746280"/>
              </a:xfrm>
              <a:custGeom>
                <a:avLst/>
                <a:gdLst/>
                <a:ahLst/>
                <a:rect l="l" t="t" r="r" b="b"/>
                <a:pathLst>
                  <a:path w="816" h="1296">
                    <a:moveTo>
                      <a:pt x="288" y="0"/>
                    </a:moveTo>
                    <a:lnTo>
                      <a:pt x="528" y="96"/>
                    </a:lnTo>
                    <a:lnTo>
                      <a:pt x="528" y="192"/>
                    </a:lnTo>
                    <a:lnTo>
                      <a:pt x="816" y="432"/>
                    </a:lnTo>
                    <a:lnTo>
                      <a:pt x="624" y="480"/>
                    </a:lnTo>
                    <a:lnTo>
                      <a:pt x="720" y="576"/>
                    </a:lnTo>
                    <a:lnTo>
                      <a:pt x="624" y="624"/>
                    </a:lnTo>
                    <a:lnTo>
                      <a:pt x="720" y="624"/>
                    </a:lnTo>
                    <a:lnTo>
                      <a:pt x="768" y="816"/>
                    </a:lnTo>
                    <a:lnTo>
                      <a:pt x="480" y="1056"/>
                    </a:lnTo>
                    <a:lnTo>
                      <a:pt x="384" y="1296"/>
                    </a:lnTo>
                    <a:lnTo>
                      <a:pt x="0" y="1296"/>
                    </a:lnTo>
                    <a:lnTo>
                      <a:pt x="0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aee4c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108000" y="5180040"/>
                <a:ext cx="685800" cy="746280"/>
              </a:xfrm>
              <a:custGeom>
                <a:avLst/>
                <a:gdLst/>
                <a:ahLst/>
                <a:rect l="l" t="t" r="r" b="b"/>
                <a:pathLst>
                  <a:path w="528" h="1200">
                    <a:moveTo>
                      <a:pt x="528" y="192"/>
                    </a:moveTo>
                    <a:lnTo>
                      <a:pt x="528" y="1200"/>
                    </a:lnTo>
                    <a:lnTo>
                      <a:pt x="240" y="1200"/>
                    </a:lnTo>
                    <a:lnTo>
                      <a:pt x="144" y="960"/>
                    </a:lnTo>
                    <a:lnTo>
                      <a:pt x="0" y="816"/>
                    </a:lnTo>
                    <a:lnTo>
                      <a:pt x="48" y="672"/>
                    </a:lnTo>
                    <a:lnTo>
                      <a:pt x="144" y="672"/>
                    </a:lnTo>
                    <a:lnTo>
                      <a:pt x="48" y="576"/>
                    </a:lnTo>
                    <a:lnTo>
                      <a:pt x="144" y="480"/>
                    </a:lnTo>
                    <a:lnTo>
                      <a:pt x="0" y="432"/>
                    </a:lnTo>
                    <a:lnTo>
                      <a:pt x="192" y="240"/>
                    </a:lnTo>
                    <a:lnTo>
                      <a:pt x="144" y="144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528" y="1200"/>
                    </a:lnTo>
                  </a:path>
                </a:pathLst>
              </a:custGeom>
              <a:gradFill rotWithShape="0">
                <a:gsLst>
                  <a:gs pos="0">
                    <a:srgbClr val="cfefdf"/>
                  </a:gs>
                  <a:gs pos="100000">
                    <a:srgbClr val="fff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3"/>
            <p:cNvSpPr/>
            <p:nvPr/>
          </p:nvSpPr>
          <p:spPr>
            <a:xfrm>
              <a:off x="1403280" y="5226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14" descr="GTH_001"/>
            <p:cNvPicPr/>
            <p:nvPr/>
          </p:nvPicPr>
          <p:blipFill>
            <a:blip r:embed="rId2"/>
            <a:stretch/>
          </p:blipFill>
          <p:spPr>
            <a:xfrm>
              <a:off x="533160" y="5199120"/>
              <a:ext cx="56520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147"/>
          <p:cNvGrpSpPr/>
          <p:nvPr/>
        </p:nvGrpSpPr>
        <p:grpSpPr>
          <a:xfrm>
            <a:off x="325440" y="246240"/>
            <a:ext cx="2232360" cy="805320"/>
            <a:chOff x="325440" y="246240"/>
            <a:chExt cx="2232360" cy="805320"/>
          </a:xfrm>
        </p:grpSpPr>
        <p:sp>
          <p:nvSpPr>
            <p:cNvPr id="94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矩形的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9265"/>
          <p:cNvSpPr/>
          <p:nvPr/>
        </p:nvSpPr>
        <p:spPr>
          <a:xfrm>
            <a:off x="307800" y="1123920"/>
            <a:ext cx="86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李芳同学通过画“边－直角、边－直角、边－直角、边”这样四步画出一个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28880" y="3111480"/>
            <a:ext cx="3384720" cy="360"/>
            <a:chOff x="2828880" y="3111480"/>
            <a:chExt cx="3384720" cy="360"/>
          </a:xfrm>
        </p:grpSpPr>
        <p:sp>
          <p:nvSpPr>
            <p:cNvPr id="101" name="直接连接符 9267"/>
            <p:cNvSpPr/>
            <p:nvPr/>
          </p:nvSpPr>
          <p:spPr>
            <a:xfrm>
              <a:off x="2828880" y="3111480"/>
              <a:ext cx="33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828880" y="3111480"/>
              <a:ext cx="33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13600" y="3111480"/>
            <a:ext cx="360" cy="1297080"/>
            <a:chOff x="6213600" y="3111480"/>
            <a:chExt cx="360" cy="1297080"/>
          </a:xfrm>
        </p:grpSpPr>
        <p:sp>
          <p:nvSpPr>
            <p:cNvPr id="104" name="直接连接符 9268"/>
            <p:cNvSpPr/>
            <p:nvPr/>
          </p:nvSpPr>
          <p:spPr>
            <a:xfrm>
              <a:off x="6213600" y="31114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213600" y="3111480"/>
              <a:ext cx="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9271"/>
          <p:cNvGrpSpPr/>
          <p:nvPr/>
        </p:nvGrpSpPr>
        <p:grpSpPr>
          <a:xfrm>
            <a:off x="6068880" y="3124080"/>
            <a:ext cx="144720" cy="144720"/>
            <a:chOff x="6068880" y="3124080"/>
            <a:chExt cx="144720" cy="144720"/>
          </a:xfrm>
        </p:grpSpPr>
        <p:grpSp>
          <p:nvGrpSpPr>
            <p:cNvPr id="107" name=""/>
            <p:cNvGrpSpPr/>
            <p:nvPr/>
          </p:nvGrpSpPr>
          <p:grpSpPr>
            <a:xfrm>
              <a:off x="6068880" y="3124080"/>
              <a:ext cx="360" cy="144360"/>
              <a:chOff x="6068880" y="3124080"/>
              <a:chExt cx="360" cy="144360"/>
            </a:xfrm>
          </p:grpSpPr>
          <p:sp>
            <p:nvSpPr>
              <p:cNvPr id="108" name="直接连接符 9269"/>
              <p:cNvSpPr/>
              <p:nvPr/>
            </p:nvSpPr>
            <p:spPr>
              <a:xfrm>
                <a:off x="6068880" y="312408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6068880" y="312408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068880" y="3268440"/>
              <a:ext cx="144720" cy="360"/>
              <a:chOff x="6068880" y="3268440"/>
              <a:chExt cx="144720" cy="360"/>
            </a:xfrm>
          </p:grpSpPr>
          <p:sp>
            <p:nvSpPr>
              <p:cNvPr id="111" name="直接连接符 9270"/>
              <p:cNvSpPr/>
              <p:nvPr/>
            </p:nvSpPr>
            <p:spPr>
              <a:xfrm>
                <a:off x="6068880" y="326844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6068880" y="326844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组合 9272"/>
          <p:cNvGrpSpPr/>
          <p:nvPr/>
        </p:nvGrpSpPr>
        <p:grpSpPr>
          <a:xfrm>
            <a:off x="6068880" y="4253760"/>
            <a:ext cx="144720" cy="144720"/>
            <a:chOff x="6068880" y="4253760"/>
            <a:chExt cx="144720" cy="144720"/>
          </a:xfrm>
        </p:grpSpPr>
        <p:grpSp>
          <p:nvGrpSpPr>
            <p:cNvPr id="114" name=""/>
            <p:cNvGrpSpPr/>
            <p:nvPr/>
          </p:nvGrpSpPr>
          <p:grpSpPr>
            <a:xfrm>
              <a:off x="6068880" y="4254120"/>
              <a:ext cx="360" cy="144360"/>
              <a:chOff x="6068880" y="4254120"/>
              <a:chExt cx="360" cy="144360"/>
            </a:xfrm>
          </p:grpSpPr>
          <p:sp>
            <p:nvSpPr>
              <p:cNvPr id="115" name="直接连接符 9273"/>
              <p:cNvSpPr/>
              <p:nvPr/>
            </p:nvSpPr>
            <p:spPr>
              <a:xfrm flipV="1">
                <a:off x="6068880" y="425412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10800000">
                <a:off x="6068880" y="425412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068880" y="4253760"/>
              <a:ext cx="144720" cy="360"/>
              <a:chOff x="6068880" y="4253760"/>
              <a:chExt cx="144720" cy="360"/>
            </a:xfrm>
          </p:grpSpPr>
          <p:sp>
            <p:nvSpPr>
              <p:cNvPr id="118" name="直接连接符 9274"/>
              <p:cNvSpPr/>
              <p:nvPr/>
            </p:nvSpPr>
            <p:spPr>
              <a:xfrm>
                <a:off x="6068880" y="425412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0800000">
                <a:off x="6068880" y="425376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828880" y="4403880"/>
            <a:ext cx="3384720" cy="360"/>
            <a:chOff x="2828880" y="4403880"/>
            <a:chExt cx="3384720" cy="360"/>
          </a:xfrm>
        </p:grpSpPr>
        <p:sp>
          <p:nvSpPr>
            <p:cNvPr id="121" name="直接连接符 9275"/>
            <p:cNvSpPr/>
            <p:nvPr/>
          </p:nvSpPr>
          <p:spPr>
            <a:xfrm>
              <a:off x="2828880" y="4403880"/>
              <a:ext cx="33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28880" y="4403880"/>
              <a:ext cx="33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9276"/>
          <p:cNvGrpSpPr/>
          <p:nvPr/>
        </p:nvGrpSpPr>
        <p:grpSpPr>
          <a:xfrm>
            <a:off x="2828520" y="4263480"/>
            <a:ext cx="144360" cy="144720"/>
            <a:chOff x="2828520" y="4263480"/>
            <a:chExt cx="144360" cy="144720"/>
          </a:xfrm>
        </p:grpSpPr>
        <p:grpSp>
          <p:nvGrpSpPr>
            <p:cNvPr id="124" name=""/>
            <p:cNvGrpSpPr/>
            <p:nvPr/>
          </p:nvGrpSpPr>
          <p:grpSpPr>
            <a:xfrm>
              <a:off x="2972520" y="4263840"/>
              <a:ext cx="360" cy="144360"/>
              <a:chOff x="2972520" y="4263840"/>
              <a:chExt cx="360" cy="144360"/>
            </a:xfrm>
          </p:grpSpPr>
          <p:sp>
            <p:nvSpPr>
              <p:cNvPr id="125" name="直接连接符 9277"/>
              <p:cNvSpPr/>
              <p:nvPr/>
            </p:nvSpPr>
            <p:spPr>
              <a:xfrm flipV="1">
                <a:off x="2972880" y="426384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 rot="10800000">
                <a:off x="2972520" y="426384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828520" y="4263480"/>
              <a:ext cx="144360" cy="360"/>
              <a:chOff x="2828520" y="4263480"/>
              <a:chExt cx="144360" cy="360"/>
            </a:xfrm>
          </p:grpSpPr>
          <p:sp>
            <p:nvSpPr>
              <p:cNvPr id="128" name="直接连接符 9278"/>
              <p:cNvSpPr/>
              <p:nvPr/>
            </p:nvSpPr>
            <p:spPr>
              <a:xfrm flipH="1">
                <a:off x="2828520" y="42638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 rot="10800000">
                <a:off x="2828520" y="4263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828880" y="3111480"/>
            <a:ext cx="360" cy="1297080"/>
            <a:chOff x="2828880" y="3111480"/>
            <a:chExt cx="360" cy="1297080"/>
          </a:xfrm>
        </p:grpSpPr>
        <p:sp>
          <p:nvSpPr>
            <p:cNvPr id="131" name="直接连接符 9279"/>
            <p:cNvSpPr/>
            <p:nvPr/>
          </p:nvSpPr>
          <p:spPr>
            <a:xfrm>
              <a:off x="2828880" y="31114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828880" y="3111480"/>
              <a:ext cx="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9280"/>
          <p:cNvSpPr/>
          <p:nvPr/>
        </p:nvSpPr>
        <p:spPr>
          <a:xfrm>
            <a:off x="4222800" y="26067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281"/>
          <p:cNvSpPr/>
          <p:nvPr/>
        </p:nvSpPr>
        <p:spPr>
          <a:xfrm>
            <a:off x="6238800" y="35323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282"/>
          <p:cNvSpPr/>
          <p:nvPr/>
        </p:nvSpPr>
        <p:spPr>
          <a:xfrm>
            <a:off x="4222800" y="4421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283"/>
          <p:cNvSpPr/>
          <p:nvPr/>
        </p:nvSpPr>
        <p:spPr>
          <a:xfrm>
            <a:off x="2365200" y="35575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284"/>
          <p:cNvSpPr/>
          <p:nvPr/>
        </p:nvSpPr>
        <p:spPr>
          <a:xfrm>
            <a:off x="324000" y="5192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李芳觉得按照以上步骤可以得到一个矩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认为她的判断正确吗？如果正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能证明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5"/>
          <p:cNvSpPr/>
          <p:nvPr/>
        </p:nvSpPr>
        <p:spPr>
          <a:xfrm>
            <a:off x="393840" y="463680"/>
            <a:ext cx="69148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5120" y="1959120"/>
            <a:ext cx="68421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∵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66006"/>
          <p:cNvGrpSpPr/>
          <p:nvPr/>
        </p:nvGrpSpPr>
        <p:grpSpPr>
          <a:xfrm>
            <a:off x="5653440" y="2492280"/>
            <a:ext cx="3121560" cy="1566000"/>
            <a:chOff x="5653440" y="2492280"/>
            <a:chExt cx="3121560" cy="1566000"/>
          </a:xfrm>
        </p:grpSpPr>
        <p:sp>
          <p:nvSpPr>
            <p:cNvPr id="141" name="文本框 65975"/>
            <p:cNvSpPr/>
            <p:nvPr/>
          </p:nvSpPr>
          <p:spPr>
            <a:xfrm>
              <a:off x="5653440" y="259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5976"/>
            <p:cNvSpPr/>
            <p:nvPr/>
          </p:nvSpPr>
          <p:spPr>
            <a:xfrm>
              <a:off x="5697720" y="355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65977"/>
            <p:cNvSpPr/>
            <p:nvPr/>
          </p:nvSpPr>
          <p:spPr>
            <a:xfrm>
              <a:off x="8388720" y="3598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5978"/>
            <p:cNvSpPr/>
            <p:nvPr/>
          </p:nvSpPr>
          <p:spPr>
            <a:xfrm>
              <a:off x="8374680" y="249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082920" y="3814200"/>
              <a:ext cx="2303640" cy="360"/>
              <a:chOff x="6082920" y="3814200"/>
              <a:chExt cx="2303640" cy="360"/>
            </a:xfrm>
          </p:grpSpPr>
          <p:sp>
            <p:nvSpPr>
              <p:cNvPr id="146" name="直接连接符 65983"/>
              <p:cNvSpPr/>
              <p:nvPr/>
            </p:nvSpPr>
            <p:spPr>
              <a:xfrm flipH="1">
                <a:off x="6082920" y="381456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10800000">
                <a:off x="6082920" y="3814200"/>
                <a:ext cx="230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82920" y="2733120"/>
              <a:ext cx="360" cy="1079640"/>
              <a:chOff x="6082920" y="2733120"/>
              <a:chExt cx="360" cy="1079640"/>
            </a:xfrm>
          </p:grpSpPr>
          <p:sp>
            <p:nvSpPr>
              <p:cNvPr id="149" name="直接连接符 65984"/>
              <p:cNvSpPr/>
              <p:nvPr/>
            </p:nvSpPr>
            <p:spPr>
              <a:xfrm flipV="1">
                <a:off x="6083280" y="273312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10800000">
                <a:off x="6082920" y="273312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组合 65985"/>
            <p:cNvGrpSpPr/>
            <p:nvPr/>
          </p:nvGrpSpPr>
          <p:grpSpPr>
            <a:xfrm>
              <a:off x="6084720" y="3691800"/>
              <a:ext cx="98280" cy="121320"/>
              <a:chOff x="6084720" y="3691800"/>
              <a:chExt cx="98280" cy="1213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182640" y="3692160"/>
                <a:ext cx="360" cy="120960"/>
                <a:chOff x="6182640" y="3692160"/>
                <a:chExt cx="360" cy="120960"/>
              </a:xfrm>
            </p:grpSpPr>
            <p:sp>
              <p:nvSpPr>
                <p:cNvPr id="153" name="直接连接符 65986"/>
                <p:cNvSpPr/>
                <p:nvPr/>
              </p:nvSpPr>
              <p:spPr>
                <a:xfrm flipV="1">
                  <a:off x="6183000" y="3692160"/>
                  <a:ext cx="0" cy="12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 rot="10800000">
                  <a:off x="6182640" y="3692160"/>
                  <a:ext cx="36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084720" y="3691800"/>
                <a:ext cx="98280" cy="360"/>
                <a:chOff x="6084720" y="3691800"/>
                <a:chExt cx="98280" cy="360"/>
              </a:xfrm>
            </p:grpSpPr>
            <p:sp>
              <p:nvSpPr>
                <p:cNvPr id="156" name="直接连接符 65987"/>
                <p:cNvSpPr/>
                <p:nvPr/>
              </p:nvSpPr>
              <p:spPr>
                <a:xfrm flipH="1">
                  <a:off x="6084720" y="3692160"/>
                  <a:ext cx="98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 rot="10800000">
                  <a:off x="6084720" y="3691800"/>
                  <a:ext cx="98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组合 65988"/>
            <p:cNvGrpSpPr/>
            <p:nvPr/>
          </p:nvGrpSpPr>
          <p:grpSpPr>
            <a:xfrm>
              <a:off x="6083280" y="2741400"/>
              <a:ext cx="98640" cy="120960"/>
              <a:chOff x="6083280" y="2741400"/>
              <a:chExt cx="98640" cy="1209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181560" y="2741400"/>
                <a:ext cx="360" cy="120600"/>
                <a:chOff x="6181560" y="2741400"/>
                <a:chExt cx="360" cy="120600"/>
              </a:xfrm>
            </p:grpSpPr>
            <p:sp>
              <p:nvSpPr>
                <p:cNvPr id="160" name="直接连接符 65989"/>
                <p:cNvSpPr/>
                <p:nvPr/>
              </p:nvSpPr>
              <p:spPr>
                <a:xfrm>
                  <a:off x="6181920" y="274140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6181560" y="2741400"/>
                  <a:ext cx="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83280" y="2862000"/>
                <a:ext cx="98640" cy="360"/>
                <a:chOff x="6083280" y="2862000"/>
                <a:chExt cx="98640" cy="360"/>
              </a:xfrm>
            </p:grpSpPr>
            <p:sp>
              <p:nvSpPr>
                <p:cNvPr id="163" name="直接连接符 65990"/>
                <p:cNvSpPr/>
                <p:nvPr/>
              </p:nvSpPr>
              <p:spPr>
                <a:xfrm flipH="1">
                  <a:off x="6083280" y="2862000"/>
                  <a:ext cx="9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6083280" y="2862000"/>
                  <a:ext cx="98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082920" y="2736360"/>
              <a:ext cx="2303640" cy="360"/>
              <a:chOff x="6082920" y="2736360"/>
              <a:chExt cx="2303640" cy="360"/>
            </a:xfrm>
          </p:grpSpPr>
          <p:sp>
            <p:nvSpPr>
              <p:cNvPr id="166" name="直接连接符 65991"/>
              <p:cNvSpPr/>
              <p:nvPr/>
            </p:nvSpPr>
            <p:spPr>
              <a:xfrm flipH="1">
                <a:off x="6082920" y="273672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6082920" y="2736360"/>
                <a:ext cx="230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386560" y="2733120"/>
              <a:ext cx="360" cy="1079640"/>
              <a:chOff x="8386560" y="2733120"/>
              <a:chExt cx="360" cy="1079640"/>
            </a:xfrm>
          </p:grpSpPr>
          <p:sp>
            <p:nvSpPr>
              <p:cNvPr id="169" name="直接连接符 65995"/>
              <p:cNvSpPr/>
              <p:nvPr/>
            </p:nvSpPr>
            <p:spPr>
              <a:xfrm flipV="1">
                <a:off x="8386920" y="273312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 rot="10800000">
                <a:off x="8386560" y="273312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65997"/>
            <p:cNvGrpSpPr/>
            <p:nvPr/>
          </p:nvGrpSpPr>
          <p:grpSpPr>
            <a:xfrm>
              <a:off x="8244000" y="3678840"/>
              <a:ext cx="144360" cy="120960"/>
              <a:chOff x="8244000" y="3678840"/>
              <a:chExt cx="144360" cy="1209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8244000" y="3679200"/>
                <a:ext cx="360" cy="120600"/>
                <a:chOff x="8244000" y="3679200"/>
                <a:chExt cx="360" cy="120600"/>
              </a:xfrm>
            </p:grpSpPr>
            <p:sp>
              <p:nvSpPr>
                <p:cNvPr id="173" name="直接连接符 65998"/>
                <p:cNvSpPr/>
                <p:nvPr/>
              </p:nvSpPr>
              <p:spPr>
                <a:xfrm flipV="1">
                  <a:off x="8244000" y="367920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 rot="10800000">
                  <a:off x="8244000" y="3679200"/>
                  <a:ext cx="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244000" y="3678840"/>
                <a:ext cx="144360" cy="360"/>
                <a:chOff x="8244000" y="3678840"/>
                <a:chExt cx="144360" cy="360"/>
              </a:xfrm>
            </p:grpSpPr>
            <p:sp>
              <p:nvSpPr>
                <p:cNvPr id="176" name="直接连接符 65999"/>
                <p:cNvSpPr/>
                <p:nvPr/>
              </p:nvSpPr>
              <p:spPr>
                <a:xfrm>
                  <a:off x="8244000" y="367920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 txBox="1"/>
                <p:nvPr/>
              </p:nvSpPr>
              <p:spPr>
                <a:xfrm rot="10800000">
                  <a:off x="8244000" y="367884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" name="矩形 58"/>
          <p:cNvSpPr/>
          <p:nvPr/>
        </p:nvSpPr>
        <p:spPr>
          <a:xfrm>
            <a:off x="611280" y="558972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三个角是直角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38"/>
          <p:cNvGrpSpPr/>
          <p:nvPr/>
        </p:nvGrpSpPr>
        <p:grpSpPr>
          <a:xfrm>
            <a:off x="714240" y="5632560"/>
            <a:ext cx="647640" cy="647640"/>
            <a:chOff x="714240" y="5632560"/>
            <a:chExt cx="647640" cy="647640"/>
          </a:xfrm>
        </p:grpSpPr>
        <p:grpSp>
          <p:nvGrpSpPr>
            <p:cNvPr id="180" name="组合 35"/>
            <p:cNvGrpSpPr/>
            <p:nvPr/>
          </p:nvGrpSpPr>
          <p:grpSpPr>
            <a:xfrm>
              <a:off x="714240" y="5632560"/>
              <a:ext cx="647640" cy="647640"/>
              <a:chOff x="714240" y="5632560"/>
              <a:chExt cx="647640" cy="647640"/>
            </a:xfrm>
          </p:grpSpPr>
          <p:sp>
            <p:nvSpPr>
              <p:cNvPr id="181" name="椭圆 56"/>
              <p:cNvSpPr/>
              <p:nvPr/>
            </p:nvSpPr>
            <p:spPr>
              <a:xfrm>
                <a:off x="714240" y="563256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57"/>
              <p:cNvSpPr/>
              <p:nvPr/>
            </p:nvSpPr>
            <p:spPr>
              <a:xfrm>
                <a:off x="785880" y="563256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Box 55"/>
            <p:cNvSpPr/>
            <p:nvPr/>
          </p:nvSpPr>
          <p:spPr>
            <a:xfrm>
              <a:off x="785880" y="569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a2431066"/>
          <p:cNvPicPr/>
          <p:nvPr/>
        </p:nvPicPr>
        <p:blipFill>
          <a:blip r:embed="rId1"/>
          <a:stretch/>
        </p:blipFill>
        <p:spPr>
          <a:xfrm>
            <a:off x="4718160" y="1700280"/>
            <a:ext cx="4032000" cy="2135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576360" y="763560"/>
            <a:ext cx="75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四个内角的平分线分别相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76360" y="175752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71640" y="594684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114560" y="537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=∠EHG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936360" y="2203560"/>
            <a:ext cx="36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在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187280" y="2619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+∠ABC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187280" y="3146400"/>
            <a:ext cx="47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971640" y="4290840"/>
            <a:ext cx="74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+ ∠ABF=1/2∠DAB+1/2∠ABC=9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114560" y="4795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B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31"/>
          <p:cNvSpPr/>
          <p:nvPr/>
        </p:nvSpPr>
        <p:spPr>
          <a:xfrm>
            <a:off x="403200" y="477720"/>
            <a:ext cx="1219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282840" y="4786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F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97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6263"/>
          <p:cNvSpPr/>
          <p:nvPr/>
        </p:nvSpPr>
        <p:spPr>
          <a:xfrm>
            <a:off x="281160" y="9111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: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一个活动的平行四边形教具演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拉动一对不相邻的顶点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观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对角线的长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278"/>
          <p:cNvGrpSpPr/>
          <p:nvPr/>
        </p:nvGrpSpPr>
        <p:grpSpPr>
          <a:xfrm>
            <a:off x="395280" y="2567160"/>
            <a:ext cx="2735280" cy="1800000"/>
            <a:chOff x="395280" y="2567160"/>
            <a:chExt cx="2735280" cy="1800000"/>
          </a:xfrm>
        </p:grpSpPr>
        <p:sp>
          <p:nvSpPr>
            <p:cNvPr id="201" name="矩形 6279"/>
            <p:cNvSpPr/>
            <p:nvPr/>
          </p:nvSpPr>
          <p:spPr>
            <a:xfrm>
              <a:off x="538200" y="2955960"/>
              <a:ext cx="259236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6280"/>
            <p:cNvSpPr/>
            <p:nvPr/>
          </p:nvSpPr>
          <p:spPr>
            <a:xfrm>
              <a:off x="395280" y="3890880"/>
              <a:ext cx="259272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6281"/>
            <p:cNvSpPr/>
            <p:nvPr/>
          </p:nvSpPr>
          <p:spPr>
            <a:xfrm>
              <a:off x="1992600" y="2567160"/>
              <a:ext cx="93492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6282"/>
            <p:cNvSpPr/>
            <p:nvPr/>
          </p:nvSpPr>
          <p:spPr>
            <a:xfrm>
              <a:off x="696960" y="2567160"/>
              <a:ext cx="93528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6283"/>
            <p:cNvSpPr/>
            <p:nvPr/>
          </p:nvSpPr>
          <p:spPr>
            <a:xfrm>
              <a:off x="1325880" y="29876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284"/>
            <p:cNvSpPr/>
            <p:nvPr/>
          </p:nvSpPr>
          <p:spPr>
            <a:xfrm>
              <a:off x="2622600" y="2987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6285"/>
            <p:cNvSpPr/>
            <p:nvPr/>
          </p:nvSpPr>
          <p:spPr>
            <a:xfrm>
              <a:off x="2195640" y="39290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6286"/>
            <p:cNvSpPr/>
            <p:nvPr/>
          </p:nvSpPr>
          <p:spPr>
            <a:xfrm>
              <a:off x="898560" y="3924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03280" y="3071880"/>
            <a:ext cx="792360" cy="792000"/>
            <a:chOff x="1403280" y="3071880"/>
            <a:chExt cx="792360" cy="792000"/>
          </a:xfrm>
        </p:grpSpPr>
        <p:sp>
          <p:nvSpPr>
            <p:cNvPr id="210" name="直接连接符 6299"/>
            <p:cNvSpPr/>
            <p:nvPr/>
          </p:nvSpPr>
          <p:spPr>
            <a:xfrm>
              <a:off x="1403280" y="3071880"/>
              <a:ext cx="792360" cy="79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403280" y="3071880"/>
              <a:ext cx="792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42560" y="3071880"/>
            <a:ext cx="1584720" cy="792000"/>
            <a:chOff x="1042560" y="3071880"/>
            <a:chExt cx="1584720" cy="792000"/>
          </a:xfrm>
        </p:grpSpPr>
        <p:sp>
          <p:nvSpPr>
            <p:cNvPr id="213" name="直接连接符 6300"/>
            <p:cNvSpPr/>
            <p:nvPr/>
          </p:nvSpPr>
          <p:spPr>
            <a:xfrm flipV="1">
              <a:off x="1042920" y="3071880"/>
              <a:ext cx="1584360" cy="79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1042560" y="3071880"/>
              <a:ext cx="1584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298"/>
          <p:cNvGrpSpPr/>
          <p:nvPr/>
        </p:nvGrpSpPr>
        <p:grpSpPr>
          <a:xfrm>
            <a:off x="3492360" y="2424240"/>
            <a:ext cx="2593800" cy="1942920"/>
            <a:chOff x="3492360" y="2424240"/>
            <a:chExt cx="2593800" cy="1942920"/>
          </a:xfrm>
        </p:grpSpPr>
        <p:sp>
          <p:nvSpPr>
            <p:cNvPr id="216" name="矩形 6266"/>
            <p:cNvSpPr/>
            <p:nvPr/>
          </p:nvSpPr>
          <p:spPr>
            <a:xfrm>
              <a:off x="3493800" y="393372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6267"/>
            <p:cNvSpPr/>
            <p:nvPr/>
          </p:nvSpPr>
          <p:spPr>
            <a:xfrm>
              <a:off x="5294160" y="39718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6268"/>
            <p:cNvSpPr/>
            <p:nvPr/>
          </p:nvSpPr>
          <p:spPr>
            <a:xfrm>
              <a:off x="3997080" y="3967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6269"/>
            <p:cNvSpPr/>
            <p:nvPr/>
          </p:nvSpPr>
          <p:spPr>
            <a:xfrm>
              <a:off x="3492360" y="275580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6270"/>
            <p:cNvSpPr/>
            <p:nvPr/>
          </p:nvSpPr>
          <p:spPr>
            <a:xfrm>
              <a:off x="5278320" y="2790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6271"/>
            <p:cNvSpPr/>
            <p:nvPr/>
          </p:nvSpPr>
          <p:spPr>
            <a:xfrm>
              <a:off x="3981240" y="27860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6272"/>
            <p:cNvSpPr/>
            <p:nvPr/>
          </p:nvSpPr>
          <p:spPr>
            <a:xfrm>
              <a:off x="3952800" y="249552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6273"/>
            <p:cNvSpPr/>
            <p:nvPr/>
          </p:nvSpPr>
          <p:spPr>
            <a:xfrm>
              <a:off x="5262480" y="242424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67280" y="2855520"/>
            <a:ext cx="1225440" cy="1079640"/>
            <a:chOff x="4067280" y="2855520"/>
            <a:chExt cx="1225440" cy="1079640"/>
          </a:xfrm>
        </p:grpSpPr>
        <p:sp>
          <p:nvSpPr>
            <p:cNvPr id="225" name="直接连接符 6301"/>
            <p:cNvSpPr/>
            <p:nvPr/>
          </p:nvSpPr>
          <p:spPr>
            <a:xfrm flipV="1">
              <a:off x="4067280" y="2855520"/>
              <a:ext cx="1225440" cy="1079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4067280" y="2855520"/>
              <a:ext cx="122544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057560" y="2855880"/>
            <a:ext cx="1297080" cy="1150920"/>
            <a:chOff x="4057560" y="2855880"/>
            <a:chExt cx="1297080" cy="1150920"/>
          </a:xfrm>
        </p:grpSpPr>
        <p:sp>
          <p:nvSpPr>
            <p:cNvPr id="228" name="直接连接符 6303"/>
            <p:cNvSpPr/>
            <p:nvPr/>
          </p:nvSpPr>
          <p:spPr>
            <a:xfrm>
              <a:off x="4057560" y="2855880"/>
              <a:ext cx="1297080" cy="1150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057560" y="2855880"/>
              <a:ext cx="129708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6289"/>
          <p:cNvGrpSpPr/>
          <p:nvPr/>
        </p:nvGrpSpPr>
        <p:grpSpPr>
          <a:xfrm>
            <a:off x="6372360" y="2495520"/>
            <a:ext cx="2593440" cy="1800000"/>
            <a:chOff x="6372360" y="2495520"/>
            <a:chExt cx="2593440" cy="1800000"/>
          </a:xfrm>
        </p:grpSpPr>
        <p:sp>
          <p:nvSpPr>
            <p:cNvPr id="231" name="矩形 6290"/>
            <p:cNvSpPr/>
            <p:nvPr/>
          </p:nvSpPr>
          <p:spPr>
            <a:xfrm flipH="1">
              <a:off x="6372360" y="2884320"/>
              <a:ext cx="245808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6291"/>
            <p:cNvSpPr/>
            <p:nvPr/>
          </p:nvSpPr>
          <p:spPr>
            <a:xfrm flipH="1">
              <a:off x="6507000" y="3819240"/>
              <a:ext cx="24584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平行四边形 6292"/>
            <p:cNvSpPr/>
            <p:nvPr/>
          </p:nvSpPr>
          <p:spPr>
            <a:xfrm flipH="1">
              <a:off x="6564960" y="2495520"/>
              <a:ext cx="88632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平行四边形 6293"/>
            <p:cNvSpPr/>
            <p:nvPr/>
          </p:nvSpPr>
          <p:spPr>
            <a:xfrm flipH="1">
              <a:off x="7792920" y="2495520"/>
              <a:ext cx="88668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6294"/>
            <p:cNvSpPr/>
            <p:nvPr/>
          </p:nvSpPr>
          <p:spPr>
            <a:xfrm flipH="1">
              <a:off x="8014320" y="2916000"/>
              <a:ext cx="68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6295"/>
            <p:cNvSpPr/>
            <p:nvPr/>
          </p:nvSpPr>
          <p:spPr>
            <a:xfrm flipH="1">
              <a:off x="6784560" y="291600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6296"/>
            <p:cNvSpPr/>
            <p:nvPr/>
          </p:nvSpPr>
          <p:spPr>
            <a:xfrm flipH="1">
              <a:off x="7189560" y="385740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6297"/>
            <p:cNvSpPr/>
            <p:nvPr/>
          </p:nvSpPr>
          <p:spPr>
            <a:xfrm flipH="1">
              <a:off x="8419680" y="385272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36000" y="2927520"/>
            <a:ext cx="792000" cy="936360"/>
            <a:chOff x="7236000" y="2927520"/>
            <a:chExt cx="792000" cy="936360"/>
          </a:xfrm>
        </p:grpSpPr>
        <p:sp>
          <p:nvSpPr>
            <p:cNvPr id="240" name="直接连接符 6304"/>
            <p:cNvSpPr/>
            <p:nvPr/>
          </p:nvSpPr>
          <p:spPr>
            <a:xfrm flipH="1">
              <a:off x="7236000" y="2927520"/>
              <a:ext cx="79200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236000" y="2927520"/>
              <a:ext cx="79200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04000" y="2927520"/>
            <a:ext cx="1655640" cy="936360"/>
            <a:chOff x="6804000" y="2927520"/>
            <a:chExt cx="1655640" cy="936360"/>
          </a:xfrm>
        </p:grpSpPr>
        <p:sp>
          <p:nvSpPr>
            <p:cNvPr id="243" name="直接连接符 6305"/>
            <p:cNvSpPr/>
            <p:nvPr/>
          </p:nvSpPr>
          <p:spPr>
            <a:xfrm>
              <a:off x="6804000" y="2927520"/>
              <a:ext cx="165564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804000" y="2927520"/>
              <a:ext cx="165564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6308"/>
          <p:cNvSpPr/>
          <p:nvPr/>
        </p:nvSpPr>
        <p:spPr>
          <a:xfrm>
            <a:off x="250920" y="445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会看到对角线会随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变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两条对角线长度相等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6310"/>
          <p:cNvSpPr/>
          <p:nvPr/>
        </p:nvSpPr>
        <p:spPr>
          <a:xfrm flipH="1">
            <a:off x="2421000" y="3090960"/>
            <a:ext cx="71280" cy="190440"/>
          </a:xfrm>
          <a:custGeom>
            <a:avLst/>
            <a:gdLst/>
            <a:ahLst/>
            <a:rect l="l" t="t" r="r" b="b"/>
            <a:pathLst>
              <a:path fill="none" w="21600" h="39309">
                <a:moveTo>
                  <a:pt x="9767" y="0"/>
                </a:moveTo>
                <a:cubicBezTo>
                  <a:pt x="16791" y="3565"/>
                  <a:pt x="21600" y="10854"/>
                  <a:pt x="21600" y="19266"/>
                </a:cubicBezTo>
                <a:cubicBezTo>
                  <a:pt x="21600" y="28347"/>
                  <a:pt x="15996" y="36119"/>
                  <a:pt x="8061" y="39312"/>
                </a:cubicBezTo>
              </a:path>
              <a:path stroke="0" w="21600" h="39309">
                <a:moveTo>
                  <a:pt x="8053" y="39308"/>
                </a:moveTo>
                <a:cubicBezTo>
                  <a:pt x="8749" y="42658"/>
                  <a:pt x="9159" y="46767"/>
                  <a:pt x="9159" y="51206"/>
                </a:cubicBezTo>
                <a:cubicBezTo>
                  <a:pt x="9159" y="52423"/>
                  <a:pt x="9128" y="53615"/>
                  <a:pt x="9069" y="54767"/>
                </a:cubicBezTo>
                <a:lnTo>
                  <a:pt x="976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6311"/>
          <p:cNvSpPr/>
          <p:nvPr/>
        </p:nvSpPr>
        <p:spPr>
          <a:xfrm>
            <a:off x="2043000" y="2927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8231"/>
          <p:cNvSpPr/>
          <p:nvPr/>
        </p:nvSpPr>
        <p:spPr>
          <a:xfrm>
            <a:off x="179280" y="54936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18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（矩形的定义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8232"/>
          <p:cNvGrpSpPr/>
          <p:nvPr/>
        </p:nvGrpSpPr>
        <p:grpSpPr>
          <a:xfrm>
            <a:off x="5797800" y="2708280"/>
            <a:ext cx="2920320" cy="1526400"/>
            <a:chOff x="5797800" y="2708280"/>
            <a:chExt cx="2920320" cy="1526400"/>
          </a:xfrm>
        </p:grpSpPr>
        <p:sp>
          <p:nvSpPr>
            <p:cNvPr id="250" name="文本框 8221"/>
            <p:cNvSpPr/>
            <p:nvPr/>
          </p:nvSpPr>
          <p:spPr>
            <a:xfrm>
              <a:off x="5797800" y="2766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8222"/>
            <p:cNvSpPr/>
            <p:nvPr/>
          </p:nvSpPr>
          <p:spPr>
            <a:xfrm>
              <a:off x="8334720" y="2708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223"/>
            <p:cNvSpPr/>
            <p:nvPr/>
          </p:nvSpPr>
          <p:spPr>
            <a:xfrm>
              <a:off x="8334720" y="3774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8224"/>
            <p:cNvSpPr/>
            <p:nvPr/>
          </p:nvSpPr>
          <p:spPr>
            <a:xfrm>
              <a:off x="5814000" y="3730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组合 8228"/>
            <p:cNvGrpSpPr/>
            <p:nvPr/>
          </p:nvGrpSpPr>
          <p:grpSpPr>
            <a:xfrm>
              <a:off x="6172200" y="2982600"/>
              <a:ext cx="2231640" cy="971640"/>
              <a:chOff x="6172200" y="2982600"/>
              <a:chExt cx="2231640" cy="971640"/>
            </a:xfrm>
          </p:grpSpPr>
          <p:sp>
            <p:nvSpPr>
              <p:cNvPr id="255" name="矩形 8220"/>
              <p:cNvSpPr/>
              <p:nvPr/>
            </p:nvSpPr>
            <p:spPr>
              <a:xfrm>
                <a:off x="6172200" y="2982600"/>
                <a:ext cx="2210400" cy="97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6179400" y="2983320"/>
                <a:ext cx="2210400" cy="970560"/>
                <a:chOff x="6179400" y="2983320"/>
                <a:chExt cx="2210400" cy="970560"/>
              </a:xfrm>
            </p:grpSpPr>
            <p:sp>
              <p:nvSpPr>
                <p:cNvPr id="257" name="直接连接符 8225"/>
                <p:cNvSpPr/>
                <p:nvPr/>
              </p:nvSpPr>
              <p:spPr>
                <a:xfrm>
                  <a:off x="6179400" y="2983320"/>
                  <a:ext cx="2210400" cy="9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6179400" y="2983320"/>
                  <a:ext cx="2210400" cy="97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193440" y="2983320"/>
                <a:ext cx="2210400" cy="970560"/>
                <a:chOff x="6193440" y="2983320"/>
                <a:chExt cx="2210400" cy="970560"/>
              </a:xfrm>
            </p:grpSpPr>
            <p:sp>
              <p:nvSpPr>
                <p:cNvPr id="260" name="直接连接符 8226"/>
                <p:cNvSpPr/>
                <p:nvPr/>
              </p:nvSpPr>
              <p:spPr>
                <a:xfrm flipV="1">
                  <a:off x="6193440" y="2983320"/>
                  <a:ext cx="2210400" cy="9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 rot="10800000">
                  <a:off x="6193440" y="2983320"/>
                  <a:ext cx="2210400" cy="97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" name="矩形 58"/>
          <p:cNvSpPr/>
          <p:nvPr/>
        </p:nvSpPr>
        <p:spPr>
          <a:xfrm>
            <a:off x="468360" y="558972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相等的平行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8"/>
          <p:cNvGrpSpPr/>
          <p:nvPr/>
        </p:nvGrpSpPr>
        <p:grpSpPr>
          <a:xfrm>
            <a:off x="571320" y="5632560"/>
            <a:ext cx="647640" cy="647640"/>
            <a:chOff x="571320" y="5632560"/>
            <a:chExt cx="647640" cy="647640"/>
          </a:xfrm>
        </p:grpSpPr>
        <p:grpSp>
          <p:nvGrpSpPr>
            <p:cNvPr id="264" name="组合 35"/>
            <p:cNvGrpSpPr/>
            <p:nvPr/>
          </p:nvGrpSpPr>
          <p:grpSpPr>
            <a:xfrm>
              <a:off x="571320" y="5632560"/>
              <a:ext cx="647640" cy="647640"/>
              <a:chOff x="571320" y="5632560"/>
              <a:chExt cx="647640" cy="647640"/>
            </a:xfrm>
          </p:grpSpPr>
          <p:sp>
            <p:nvSpPr>
              <p:cNvPr id="265" name="椭圆 56"/>
              <p:cNvSpPr/>
              <p:nvPr/>
            </p:nvSpPr>
            <p:spPr>
              <a:xfrm>
                <a:off x="571320" y="563256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57"/>
              <p:cNvSpPr/>
              <p:nvPr/>
            </p:nvSpPr>
            <p:spPr>
              <a:xfrm>
                <a:off x="642960" y="563256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5"/>
            <p:cNvSpPr/>
            <p:nvPr/>
          </p:nvSpPr>
          <p:spPr>
            <a:xfrm>
              <a:off x="642960" y="569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标题 12290"/>
          <p:cNvSpPr/>
          <p:nvPr/>
        </p:nvSpPr>
        <p:spPr>
          <a:xfrm>
            <a:off x="611280" y="479520"/>
            <a:ext cx="7607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BF=CG=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2291"/>
          <p:cNvSpPr/>
          <p:nvPr/>
        </p:nvSpPr>
        <p:spPr>
          <a:xfrm>
            <a:off x="611280" y="235116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619520" y="2776680"/>
            <a:ext cx="3507120" cy="3231720"/>
            <a:chOff x="4619520" y="2776680"/>
            <a:chExt cx="3507120" cy="3231720"/>
          </a:xfrm>
        </p:grpSpPr>
        <p:grpSp>
          <p:nvGrpSpPr>
            <p:cNvPr id="271" name="组合 12293"/>
            <p:cNvGrpSpPr/>
            <p:nvPr/>
          </p:nvGrpSpPr>
          <p:grpSpPr>
            <a:xfrm>
              <a:off x="4934160" y="3284640"/>
              <a:ext cx="2808000" cy="2232000"/>
              <a:chOff x="4934160" y="3284640"/>
              <a:chExt cx="2808000" cy="2232000"/>
            </a:xfrm>
          </p:grpSpPr>
          <p:sp>
            <p:nvSpPr>
              <p:cNvPr id="272" name="直接连接符 12294"/>
              <p:cNvSpPr/>
              <p:nvPr/>
            </p:nvSpPr>
            <p:spPr>
              <a:xfrm>
                <a:off x="4934160" y="3284640"/>
                <a:ext cx="280800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2295"/>
              <p:cNvSpPr/>
              <p:nvPr/>
            </p:nvSpPr>
            <p:spPr>
              <a:xfrm flipH="1">
                <a:off x="4934160" y="3284640"/>
                <a:ext cx="280800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12296"/>
              <p:cNvSpPr/>
              <p:nvPr/>
            </p:nvSpPr>
            <p:spPr>
              <a:xfrm>
                <a:off x="7381800" y="3573720"/>
                <a:ext cx="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组合 12297"/>
              <p:cNvGrpSpPr/>
              <p:nvPr/>
            </p:nvGrpSpPr>
            <p:grpSpPr>
              <a:xfrm>
                <a:off x="4934160" y="3284640"/>
                <a:ext cx="2808000" cy="2232000"/>
                <a:chOff x="4934160" y="3284640"/>
                <a:chExt cx="2808000" cy="2232000"/>
              </a:xfrm>
            </p:grpSpPr>
            <p:sp>
              <p:nvSpPr>
                <p:cNvPr id="276" name="矩形 12298"/>
                <p:cNvSpPr/>
                <p:nvPr/>
              </p:nvSpPr>
              <p:spPr>
                <a:xfrm>
                  <a:off x="4934160" y="3284640"/>
                  <a:ext cx="2808000" cy="2232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直接连接符 12299"/>
                <p:cNvSpPr/>
                <p:nvPr/>
              </p:nvSpPr>
              <p:spPr>
                <a:xfrm>
                  <a:off x="5294160" y="3573720"/>
                  <a:ext cx="0" cy="16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直接连接符 12300"/>
                <p:cNvSpPr/>
                <p:nvPr/>
              </p:nvSpPr>
              <p:spPr>
                <a:xfrm>
                  <a:off x="5294160" y="3573720"/>
                  <a:ext cx="20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直接连接符 12301"/>
              <p:cNvSpPr/>
              <p:nvPr/>
            </p:nvSpPr>
            <p:spPr>
              <a:xfrm>
                <a:off x="5294160" y="5229360"/>
                <a:ext cx="20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矩形 12302"/>
            <p:cNvSpPr/>
            <p:nvPr/>
          </p:nvSpPr>
          <p:spPr>
            <a:xfrm>
              <a:off x="4638240" y="5365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2303"/>
            <p:cNvSpPr/>
            <p:nvPr/>
          </p:nvSpPr>
          <p:spPr>
            <a:xfrm>
              <a:off x="7651440" y="5365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304"/>
            <p:cNvSpPr/>
            <p:nvPr/>
          </p:nvSpPr>
          <p:spPr>
            <a:xfrm>
              <a:off x="7726320" y="2925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2305"/>
            <p:cNvSpPr/>
            <p:nvPr/>
          </p:nvSpPr>
          <p:spPr>
            <a:xfrm>
              <a:off x="5012640" y="3286080"/>
              <a:ext cx="36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2306"/>
            <p:cNvSpPr/>
            <p:nvPr/>
          </p:nvSpPr>
          <p:spPr>
            <a:xfrm>
              <a:off x="4957200" y="4792680"/>
              <a:ext cx="3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307"/>
            <p:cNvSpPr/>
            <p:nvPr/>
          </p:nvSpPr>
          <p:spPr>
            <a:xfrm>
              <a:off x="7359480" y="479736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2308"/>
            <p:cNvSpPr/>
            <p:nvPr/>
          </p:nvSpPr>
          <p:spPr>
            <a:xfrm>
              <a:off x="7294320" y="3357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2309"/>
            <p:cNvSpPr/>
            <p:nvPr/>
          </p:nvSpPr>
          <p:spPr>
            <a:xfrm>
              <a:off x="6137280" y="42148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2310"/>
            <p:cNvSpPr/>
            <p:nvPr/>
          </p:nvSpPr>
          <p:spPr>
            <a:xfrm>
              <a:off x="4619520" y="27766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08:34Z</dcterms:created>
  <dc:creator> </dc:creator>
  <dc:description> </dc:description>
  <dc:language>en-US</dc:language>
  <cp:lastModifiedBy>Administrator</cp:lastModifiedBy>
  <dcterms:modified xsi:type="dcterms:W3CDTF">2018-12-29T03:09:1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